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arrow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BCE-FF42-4F3E-B80E-9E957D60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EA9-3949-401E-86A3-1DBAC17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86B-F897-41F0-B28D-CBFC8729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D55-BC89-45F9-8C5F-329DB0B9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06AB-8CCB-4796-98CB-0B23C61B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B48B-3B06-4793-B538-39C19A8C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28B-4EAD-49E7-B38D-2CD81F9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A51A-18C1-46E8-9CD0-B2B24E54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F51A-2275-4E81-9E53-1384B69A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ADB2-6800-4A33-8FA5-84E8B17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AAA-F624-4C74-9936-32F28AC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7D9-F2FA-4D15-99AE-F9F4D58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FC7-E265-4CDD-ADE7-30A918F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459D-4410-4B1B-A431-D619D0B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48CA-39C8-42CB-BDAA-A74A225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555-A887-4D6E-974A-C023EF25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4C49-9C1A-4CE3-9073-F1B9360F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35C-837E-466D-9348-7E174F8D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D19-F983-462A-BC0D-32EECAEC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BE6-86CA-4858-ABF6-1018511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2F9-C570-41BD-8D78-C38679C9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AAD-9952-454B-99F5-D878AAC1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871-51A2-4C38-ADFE-70E8852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1B1-CF65-4D91-B657-03B7DEC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C98-C51C-488D-B83B-B678232C6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E00-8223-4CCE-B921-6BC9B7915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usta jugar a los deportes.  Mi jardin tiene col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84280" y="601560"/>
            <a:ext cx="45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 Jard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  <a:ea typeface="Arial"/>
              </a:rPr>
              <a:t>La casa de los Lowd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heel spokes="1"/>
    <p:sndAc>
      <p:stSnd>
        <p:snd r:embed="rId1" name="arrow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salón y la habitación de invitado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 usar la computadora para ju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 gustá jugar “minecraft.”  El salon es blanco y como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1" name="arrow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b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de mi lavomy los d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comb dir="vert"/>
    <p:sndAc>
      <p:stSnd>
        <p:snd r:embed="rId1" name="arrow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g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comer en la cocina.  La cocina es blanca con  accentos en bosqu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 cuatro                              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usta dom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s importante dibido a que su mi habi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r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Mi gabinete de China esta en mi comedor. Tien una funcion de tecla en el lado asi que todo lo qua hacemos es aprvechar quethe side so u tap the hinge and it lightens up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Mi come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i favorito roomis el que tiene el equip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que me encanta jugar en él y es tan divertido, porque yo juego Mine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5:58:13Z</dcterms:created>
  <dc:creator>lowdmic</dc:creator>
  <dc:description/>
  <dc:language>en-US</dc:language>
  <cp:lastModifiedBy>lowdmic</cp:lastModifiedBy>
  <dcterms:modified xsi:type="dcterms:W3CDTF">2012-04-25T16:00:45Z</dcterms:modified>
  <cp:revision>13</cp:revision>
  <dc:subject/>
  <dc:title>La casa de los Lowd</dc:title>
</cp:coreProperties>
</file>